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0352-5896-4F5D-8837-79DCA9F3D4B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7CB9-1117-440C-A4AA-C52C8E905365}" type="slidenum">
              <a:rPr b="0" lang="en-US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6748-BA8D-4D27-AE9E-A0F139A41643}" type="slidenum">
              <a:rPr b="0" lang="en-US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155-83FF-44E3-8286-60DEED63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A89-6D93-4EEA-878A-87F65CAD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43D-84B5-4829-A8A5-9DEA9D5D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A19-7F2C-4650-951F-02BEC761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2B7-7BCE-4630-AAC1-7FF9FE18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E4F-6CC3-4220-8245-040A9D2C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ED7-7098-48AE-AFC3-616EEB81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0AF-94BD-4EE6-A667-CCA8B7A6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B67-32C2-4210-9AFD-A6FB4DBB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1DD-2EA2-44D6-A8A0-2358122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920-A5B2-42C4-8262-4216BAF4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7AC-FDC7-4B1B-B0A9-FE48BCA0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EFF2-86F0-4F50-9F1D-9AD718AAA661}" type="slidenum">
              <a:rPr b="0" lang="en-US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99"/>
                </a:solidFill>
                <a:latin typeface="맑은 고딕"/>
              </a:rPr>
              <a:t>작심삼일 글쓰기</a:t>
            </a:r>
            <a:endParaRPr b="0" lang="en-US" sz="5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9" name="직사각형 3"/>
          <p:cNvSpPr/>
          <p:nvPr/>
        </p:nvSpPr>
        <p:spPr>
          <a:xfrm>
            <a:off x="4751640" y="5425920"/>
            <a:ext cx="35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018. 02. 07(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수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이선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직사각형 3"/>
          <p:cNvSpPr/>
          <p:nvPr/>
        </p:nvSpPr>
        <p:spPr>
          <a:xfrm>
            <a:off x="395280" y="549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c6d9f1"/>
                </a:solidFill>
                <a:latin typeface="맑은 고딕"/>
                <a:ea typeface="맑은 고딕"/>
              </a:rPr>
              <a:t>사교육걱정없는세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87280" y="-3600"/>
            <a:ext cx="8856720" cy="67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66"/>
                </a:solidFill>
                <a:latin typeface="맑은 고딕"/>
              </a:rPr>
              <a:t>복습의 시간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짧게 쓴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한 줄 넘기지 않기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문장의 리듬을 장악할 때 까지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반복하지 않는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단어</a:t>
            </a:r>
            <a:r>
              <a:rPr b="1" lang="en-US" sz="2400" spc="-1" strike="noStrike">
                <a:solidFill>
                  <a:srgbClr val="ffff00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주어</a:t>
            </a:r>
            <a:r>
              <a:rPr b="1" lang="en-US" sz="2400" spc="-1" strike="noStrike">
                <a:solidFill>
                  <a:srgbClr val="ffff00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조사</a:t>
            </a:r>
            <a:r>
              <a:rPr b="1" lang="en-US" sz="2400" spc="-1" strike="noStrike">
                <a:solidFill>
                  <a:srgbClr val="ffff00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어미</a:t>
            </a:r>
            <a:r>
              <a:rPr b="1" lang="en-US" sz="2400" spc="-1" strike="noStrike">
                <a:solidFill>
                  <a:srgbClr val="ffff00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받침</a:t>
            </a:r>
            <a:r>
              <a:rPr b="1" lang="en-US" sz="2400" spc="-1" strike="noStrike">
                <a:solidFill>
                  <a:srgbClr val="ffff00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종결어미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모든 반복을 피한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다음 문장에서 이어지는 겹침도 체크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주어와 술어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순서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주어와 술어 사이는 최대한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가깝게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식어 줄이기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부사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와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형용사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접속사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는 최대한 줄인다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5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동태보다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능동태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로 정확하고 책임 있게 쓴다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6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감정이 드러나는 표현을 줄인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0320" y="0"/>
            <a:ext cx="85280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66"/>
                </a:solidFill>
                <a:latin typeface="맑은 고딕"/>
              </a:rPr>
              <a:t>논리적인 글쓰기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논리는 인과관계 입증만이 아니라 형식과 목적에 맞게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글을 쓰는 것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주장글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주장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+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이유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+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근거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+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근거의 합리성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알림글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사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정보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)+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대상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+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목적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+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대상과 적합성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일상글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주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+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목적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논리의 근거로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예시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와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통계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를 활용하라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장 적대자의 입장에서 읽고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방어 논리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를 준비해라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시사성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시의성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을 놓치지 않는다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64680" y="0"/>
            <a:ext cx="85280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66"/>
                </a:solidFill>
                <a:latin typeface="맑은 고딕"/>
              </a:rPr>
              <a:t>퇴고하기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퇴고할 때는 꼭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출력해서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펜을 들고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소리 내서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 읽는다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퇴고를 많이 할수록 글은 좋아진다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아낌 없이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버리고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이리저리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바꿔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 본다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자신의 </a:t>
            </a:r>
            <a:r>
              <a:rPr b="1" lang="ko-KR" sz="2400" spc="-1" strike="noStrike">
                <a:solidFill>
                  <a:srgbClr val="ffff00"/>
                </a:solidFill>
                <a:latin typeface="맑은 고딕"/>
              </a:rPr>
              <a:t>글습관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을 파악하고 집중 공략한다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5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습관은 한 번에 바뀌지 않는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실망하지 말고 꾸준하게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64680" y="0"/>
            <a:ext cx="85280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66"/>
                </a:solidFill>
                <a:latin typeface="맑은 고딕"/>
              </a:rPr>
              <a:t>기억할 것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죽을 필요 없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 3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일 공부로 실력이 확 늘지 않는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의미 없는 글쓰기는 없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내 문제는 언제나 세상과 연결되어 있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선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/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악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강자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/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약자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해자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/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피해자 와 같은 쉬운 구도에 빠지지 않을 것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세상은 단순하지 않으며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정보는 왜곡되기 쉽고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인간은 생각보다 복잡한 존재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내가 편들고 싶은 대상을 위해 현명한 태도를 갖는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존재를 악마화하지 않고 사안에 집중한다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83664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99"/>
                </a:solidFill>
                <a:latin typeface="맑은 고딕"/>
              </a:rPr>
              <a:t>두려움과 귀찮음을 이기고 일단 쓴다</a:t>
            </a:r>
            <a:r>
              <a:rPr b="1" lang="en-US" sz="3600" spc="-1" strike="noStrike">
                <a:solidFill>
                  <a:srgbClr val="ffff99"/>
                </a:solidFill>
                <a:latin typeface="맑은 고딕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3095640" cy="1995480"/>
          </a:xfrm>
          <a:prstGeom prst="rect">
            <a:avLst/>
          </a:prstGeom>
          <a:ln w="0">
            <a:noFill/>
          </a:ln>
        </p:spPr>
      </p:pic>
      <p:sp>
        <p:nvSpPr>
          <p:cNvPr id="57" name="직사각형 2"/>
          <p:cNvSpPr/>
          <p:nvPr/>
        </p:nvSpPr>
        <p:spPr>
          <a:xfrm>
            <a:off x="3008160" y="5497560"/>
            <a:ext cx="19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고맙습니다냥</a:t>
            </a:r>
            <a:r>
              <a:rPr b="1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^^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05:57:56Z</dcterms:created>
  <dc:creator>하종강</dc:creator>
  <dc:description/>
  <dc:language>en-US</dc:language>
  <cp:lastModifiedBy>이선옥</cp:lastModifiedBy>
  <dcterms:modified xsi:type="dcterms:W3CDTF">2018-02-06T23:14:03Z</dcterms:modified>
  <cp:revision>1277</cp:revision>
  <dc:subject/>
  <dc:title>슬라이드 1</dc:title>
</cp:coreProperties>
</file>